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6.png" ContentType="image/png"/>
  <Override PartName="/ppt/media/image4.jpeg" ContentType="image/jpeg"/>
  <Override PartName="/ppt/media/image5.emf" ContentType="image/x-e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0D5-285A-4366-B9B7-81406293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4F4-A0EF-4CFD-99DC-14A2EB0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C8E-19C8-45D8-A475-42E06AFB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784-513C-467B-8E38-BE735A86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49FB-3A04-4583-9121-E3F51B5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277-5390-442E-8899-FF880ED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5355-B75C-4FE5-B4B1-5B75DA8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F09-0907-4881-8FEA-7480B1FB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9D5-29FC-4A80-B435-34E04C46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7B12-54D3-4AB6-8F54-BE00236F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B62B-F58B-4C5D-BF1F-57821E57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A86-DB3F-4991-AE7C-83DB050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1FC7-637D-4FC7-9AE9-2741911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E7E-2EDC-4B90-80E6-63D18A3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804-8DDE-4A02-8A20-3FB71BF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916-B26A-467D-AC47-35E4AA70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ABB-B4AE-4A24-9482-FD34141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BF4-5D0F-4DA2-913E-F8AC334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C48-4524-4C58-A37A-959FAD2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37-4A7B-4C97-97A8-E3B3F4F6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B89-543F-4049-9A82-9A39664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DDD-A2CA-4765-A0C9-4793657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0D7-7EC9-4B9C-8051-815146A5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87B-3350-4A7B-A93D-2496537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1F8-5010-4B23-ADE9-FD4B5621E36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954-B983-4663-A83A-34D822CF553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e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ヒラギノ角ゴ Pro W3"/>
              </a:rPr>
              <a:t>_x0010_The Menshevik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0" r="0" b="600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1720" y="3505320"/>
            <a:ext cx="68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c1080a"/>
                </a:solidFill>
                <a:uFillTx/>
                <a:latin typeface="Harrington"/>
              </a:rPr>
              <a:t>The Mensheviks</a:t>
            </a:r>
            <a:endParaRPr b="0" lang="en-US" sz="66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334120"/>
            <a:ext cx="394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Harrington"/>
              </a:rPr>
              <a:t>The 1905 revolution</a:t>
            </a:r>
            <a:endParaRPr b="0" lang="en-US" sz="32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Split in 1903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437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A disagreement regarding membership marked a split within the Russian Social Democratic Labor Party in 1903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wo groups formed: 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e Mensheviks and the Bolsheviks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th wanted to achieve the same aim: to overthrow the current government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2590920" cy="156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495680"/>
            <a:ext cx="29718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How” and “Who” was the difference between the two groups</a:t>
            </a: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42900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118"/>
                </a:solidFill>
                <a:latin typeface="Trebuchet MS"/>
              </a:rPr>
              <a:t>Meeting of the Russian Social Democratic Labor Party</a:t>
            </a:r>
            <a:endParaRPr b="0" lang="en-US" sz="16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Menshevik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3400" y="198108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Mensheviks” means minority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elieved that Socialism could only be achieved through an evolutionary path rather than revolutionary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urgeois Revolution &gt;&gt; working class and peasantry revolt against bourgeois &gt;&gt; establish socialism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Both Marx and the Mensheviks recognized the need for a Capitalist revolution in order to achieve socialism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84768" t="95213" r="169536" b="95213"/>
          <a:stretch/>
        </p:blipFill>
        <p:spPr>
          <a:xfrm rot="701400">
            <a:off x="2514240" y="685800"/>
            <a:ext cx="4311720" cy="547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240" y="15235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anted to become a huge political party and work with other socialist partie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anted a more broad-based party that would include full-tie revolutionaries and less active supporter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More full-tie revolutionaries compared to active supporter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Mensheviks were skilled philosophers but failed to carry  things out at a grass roots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79540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5400" y="5562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118"/>
                </a:solidFill>
                <a:latin typeface="Arial"/>
              </a:rPr>
              <a:t>Julius Martov</a:t>
            </a:r>
            <a:endParaRPr b="0" lang="en-US" sz="18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2193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First leader was Julius Martov</a:t>
            </a:r>
            <a:endParaRPr b="0" lang="en-US" sz="2800" spc="-1" strike="noStrike">
              <a:solidFill>
                <a:srgbClr val="ffc118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248160" cy="4138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96800" y="609120"/>
            <a:ext cx="45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revolution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Played active roles in the Russian Revolution of 1905 and in the St. Petersburg soviet, but were divided over World War 1 and later the Russian Revolution of 1917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During the 1905-07 revolution, the Mensheviks opposed the working class and peasants  who were in 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open revolt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742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118"/>
                </a:solidFill>
                <a:latin typeface="Trebuchet MS"/>
              </a:rPr>
              <a:t>THE END</a:t>
            </a:r>
            <a:endParaRPr b="0" lang="en-US" sz="7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6:43:09Z</dcterms:created>
  <dc:creator>apple apple</dc:creator>
  <dc:description/>
  <dc:language>en-US</dc:language>
  <cp:lastModifiedBy>Tina Kanagaratnam</cp:lastModifiedBy>
  <dcterms:modified xsi:type="dcterms:W3CDTF">2007-09-14T04:55:18Z</dcterms:modified>
  <cp:revision>9</cp:revision>
  <dc:subject/>
  <dc:title>_x0010_The Mensheviks</dc:title>
</cp:coreProperties>
</file>